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CB2-5760-4476-94D8-C278746B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D5F-10ED-4443-AB2A-E04E5664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1BA-3A7D-442A-8D5D-1B119C9D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105-E2CF-4CF2-AEB6-B88946BF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7DF3-95DC-4314-A756-88569E25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CB1F-DD68-4615-B9E7-E69D4D3D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02AE-1FB5-4A11-9075-8B036E79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E120-96F7-4451-8279-8CFDB1AE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7F14-EA4A-40BA-BA0F-F9B29970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9C34-910B-49EE-A3A7-4C8DF68A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6078-942E-4CC2-A4E0-12A41B44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C74-221A-4511-8582-806DD407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BB0F-22EF-4022-8F40-7BF9031F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52F7-FE58-4739-BE86-472A0D0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E767-DB49-4E18-9A72-8158A837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51F8-DAAF-418C-8C0A-460597D6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4739-71FD-49D2-947A-E2BEFC23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16046A-10C3-40BA-A668-1120C957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CF5F7B-6E27-4626-A9FB-13328696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647014-9EE5-4187-8AC7-12720FF4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D9BE00-3C83-4708-90A4-FBBCADFD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900A0C-05DE-424F-8351-5FBA8F2E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552-900E-4C5A-960D-6A1B6CA1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B7BEC7-6335-4057-942B-3D54E2C8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FC8996-0D0D-4798-8EED-253CDAE2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47149C-6651-4B22-ADD8-1FF4314E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80D9A9-366E-4203-891C-61F43ECC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FB1EE0-EA5E-4118-8D22-592ABFD2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3BB5F-5595-4857-BA1C-BACC9A99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95D6BE-36A1-484E-A280-C89CCC15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96D-9970-4881-9A82-30DAE800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9D3-30A9-46BE-821F-F6D532B8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208-3B68-400E-AC58-F34976C2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1B9-6084-4373-B9F4-A2A3217F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7CC-4265-4532-8D65-A408754F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2C4-2B79-4A43-9DA9-4081BEBB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9023-5AA3-4991-8DAF-ECFECBA82A2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F5AF-E1A7-4558-A7F1-1B0527D452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E850-CC04-43A1-AB5F-19600E28F70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2329-C57A-4EE4-893A-0710810CB1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C8BD-70A4-49FA-8081-D805E00284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087B-A6D3-4FD7-8AC0-0238DCA11C3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 ОБЛИЦИ ЗА АПЛИКАЦИЈУ У ОТВОРЕ Т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47AB-EF0C-4B04-B246-F8608205E6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1258920" y="1125360"/>
            <a:ext cx="66978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067280" y="5084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 су чврсти, једнодозни препара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, величина и конзистенција супозиторија морају да буду погодни за ректалну примен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једну или више лековитих супстанци које су суспендоване или растворене у једноставној или сложеној подлоз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 може да буде растворна у води или да може да се меша са водом или се топи на телесној температур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ћне материје: адсорбенси, површински активне материје, лубриканси, конзерванси и дозвољене боје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732F-DF5B-4294-A635-44B7DF88F3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4020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асли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ulti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маса супозиторије 2-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;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 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ецу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antibu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маса 1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жина 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прописи (Холандске националне формуле) декларишу уместо масе запремину готове супозиторије – 2 до 3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исање запремине може бити у неким случајевима практичније, јер је калуп сталне запремине, а и системи за дозирање код машинске израде могу се једноставније подесити на одговарајући волумен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53BD-F1CC-4A72-8788-C9ECC21297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Резултат слика за supozitorije"/>
          <p:cNvPicPr/>
          <p:nvPr/>
        </p:nvPicPr>
        <p:blipFill>
          <a:blip r:embed="rId1"/>
          <a:stretch/>
        </p:blipFill>
        <p:spPr>
          <a:xfrm>
            <a:off x="5819760" y="1844640"/>
            <a:ext cx="3324240" cy="1914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C:\Users\Ana Radovanovic\Downloads\download.jpg"/>
          <p:cNvPicPr/>
          <p:nvPr/>
        </p:nvPicPr>
        <p:blipFill>
          <a:blip r:embed="rId2"/>
          <a:stretch/>
        </p:blipFill>
        <p:spPr>
          <a:xfrm>
            <a:off x="5796000" y="4292640"/>
            <a:ext cx="220032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е капсу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360" y="256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 дозирани обли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и меким желатинским капсулама, осим што могу да буду превучене слојем лубриканса, ради лакше апликације. Глатке су површине и издуженог обл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56424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960A-FC9B-4C8E-AEC8-F3F180543B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09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суспензије за ректалну примену /енемата, клизме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2316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течни лековити препарати намењени за ректалну апликациј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тизањ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ског или локалног еф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- једнодозни препарати који садрже једну или више лековитих супстанци растворених у води, глицеролу или макрогол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 смеју да имају талог, али под условом да се он лако редиспергује, а суспензија остане довољно дуго стабилна да се може апликов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: за подешавање вискозитета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, стабилизатори и солубилизато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564240" y="6273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9913-6C82-488A-9D5B-B8E0B56959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1122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таблете за израду раствора и суспензија за ректалну приме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360" y="270792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нодозни препарати који се растварају или диспергују у води непосредно пре аплик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које олакшавају растварање или дисперговање, или спречавају слепљивање честица у суспензиј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56424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59FC-265E-4785-B384-07C1584612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ректалну примену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9640" y="3069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, кремови и гелови. Могу да буду упаковани у амбалажу са погодним апликатором за истискивање једне доз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64240" y="64515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451D-B717-421D-8F38-90EBE3953C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е за ректалну употреб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9640" y="2276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 одговарати захтевима за Лековите пе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који се састоје од велике запремине гаса диспергованог у течн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једну или више лековитих супстанци, сурфактант који обезбеђује стварање пене и друге ексципијен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8E7A-CF35-4FB4-B3C3-ED234DAB4E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пони за ректалну употреб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95280" y="229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, једнодозни препарати, намењени за краткотрајно увлачење у доњи део ректу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 деривата целулозе, колагена или силикона, који су импрегнирани са једном или више лековитих супстан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8913-CB1A-4202-81B3-749ED0ED82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промази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рапији мучнине и повраћања и као седати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дансетро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рапији мучнине и повраћа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морфи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оидни аналгет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готами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рапији мигре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ометаци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налгез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468360" y="1052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лекова формулисаних у облике за ректалну прим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472A-B926-4C08-B64A-3B2181AD0A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окаи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ethylis aminobenzoas) - локални анестети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лику ректалних супозиторија користи се за локалну, симптоматску терапију аналних фисура и болних хемороидалних чворо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љава се у концентрацији од 1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ini chloridu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оидни аналгети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у терапији јаких до веома јаких болова (постоперативни болови, политрауме, болова код терминалних стадијума карцином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 у групу параграфика и лекова са веома јаким дејством, па му је прописивање строго контолисан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а дозвољена дневна доза је 0,1 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лику супозиторија је погодан за примену код пацијената код којих се не може применити орално или парентералн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4118-85C0-48DF-A85D-7905D63F54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НИ ОБЛИЦИ ЗА АПЛИКАЦИЈУ У ОТВОРЕ ТЕЛА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ректална, вагинална, уретрална и друге примене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и који се апликују у поједине отворе те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користе се з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зање локалног или системског деловања лековите супстан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у облици за примен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м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тралним пу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ђе у друге отворе тела (ушни канал, канал зуба, носну шупљину, отворе ран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6B5F-6918-4F72-B66C-6FECC2916F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лихидроксилни алкохол) - лаксати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н у облику супозиторија погодан је лаксатив за старије особе, децу и трудниц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Д за децу је 1,0 g, а за одрасле 3,0 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7689-F3BD-42B4-AABD-5005A43EE3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А ПРИ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000" y="1699920"/>
            <a:ext cx="8280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, получврсти или чврсти препарати, намењени за апликацију на слузницу вагине са циљем да се произведе локални ефекат. Садрже једну или више лековитих супстанци</a:t>
            </a:r>
            <a:r>
              <a:rPr b="0" lang="pt-B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лека се изражава као средња концетрација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о се најчешће примењују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стри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си, дезинфицијенси, антифлогистици, антифунгициди, антибиотици и контрацептивна средств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сте вагиналних препарата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вене вагиторије (песари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е таблет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е капсул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е пен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 тампон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2"/>
          <p:cNvSpPr/>
          <p:nvPr/>
        </p:nvSpPr>
        <p:spPr>
          <a:xfrm>
            <a:off x="6564240" y="6018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209A-EBF3-4C1E-86A3-F2504071C6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ТОР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95280" y="1628280"/>
            <a:ext cx="46864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торије се називају јо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u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i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itor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u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ul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. I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nn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Jug.V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торије су дозирани препарати лекова намењени за вагиналну апликацију, са циљем да се постигне локално деловањ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у лоптастог или коничног обл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21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58BA-9ECB-4593-B890-3ED5A30F6F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32360" y="1628640"/>
            <a:ext cx="4038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бној температури су чвр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 се на телесној температури топе и раставарају у вагиналном секрет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е супстанце, у основној маси вагиторија, могу бит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воре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једнолик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спендова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мулгова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није другачије масе су 3-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6840" y="112500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лекова формулисаних у облику вагито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ноксинол-9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трацепц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хомоноцид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рапија инфекциј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chomonas vaginalis-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фунгицид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рапија инфекциј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-ом albic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ц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риол (дериват естрогена) 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о се примењује у облику вагиторија, у терапији менопаузалног атрофичног вулвовагинитиса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1599-AA05-4F61-AC14-F6AF108D56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ЗА ПРИМЕНУ У ОСТАЛЕ ОТВОРЕ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8360" y="2133360"/>
            <a:ext cx="8136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ТАМПО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тампони су једнодозни чврсти препарати намењени за краткотрајно увлачење у телесне шупљине. Састоје се од погодног материјала као што је целулоза, колаген или силикон који су импрегнирани са једном или више лековитих супстанци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РИГА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ригацију су стерилни, водени раствори велике запремине који се користе за испирање (иригацију) телесних шупљина, рана или других површина (нпр. у току хируршких операција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и спреј препарат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спирање уш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пони за у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9EE6-5C4B-4EBA-AC03-29E5623C1C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нос и течни спреј препарат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спирање но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 за но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 (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yli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i uret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i nas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i o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i d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yli cust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yli laminari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8A2D-7645-4891-817E-D9323F300D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и облици за апликацију у отворе тела су супозиторије, вагиторије и штапићи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ширем смислу сви се могу означити као супозиторија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zitorij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zitor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000" y="2708280"/>
            <a:ext cx="83516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израде, помоћне материје, фармацеутско-технолошки проблеми, стабилност и испитивања исти су или слични за супозиторије, вагиторије и бациле, па ће се дати јединствено и користити израз супозиторије у ширем смисл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21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6405-D81E-45C4-80F2-F486076274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ИЗРАДУ СУПОЗИТО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8360" y="1699920"/>
            <a:ext cx="82296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ација за подлоге за супозиторије обично обухвата следеће податк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о и хемијски састав подлог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топљења и очвршћавањ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илн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онификацион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ск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дн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број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ксидни број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сапуњене матер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чистоћ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 рефракциј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а релативна молекулска мас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шка својств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C47E-79E8-4902-8454-031B5D249A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изабрана подлога треба да омогућ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 поступак израде, стабилност препарата и максималну биолошку расположивост лековите супстанце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1280" y="2062080"/>
            <a:ext cx="8013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ине идеалне подлоге за супозиторије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топи на телесној (ректалној) температури или раствара у телесној (ректалној, вагиналној) течности по апликацији препар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нетоксична и да не иритира слузокож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компатибилна са већим бројем лековитих супстанца и помоћних материј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нема већи број полиморфних обл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лако обликуј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може лако да се ослободи из калупа без употребе лубрикан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ма одређени водени број тј. да може ако је потребно да прими вод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стабилна у току чувањ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примењива за различите поступке израд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безбеди жељену биолошку расположивост инкорпориране лековите супстанц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6491160" y="6018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0BC7-B329-45E8-A9BB-FBBBED56B6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и захтеви за идеалне липосолубилне подлог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ски број не сме бити већи од 0,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понификациони број треба да се креће од 200-2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дни број треба да буде мањи од 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ал између температуре топљења и очвршћавања треба да буде м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посолубил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логе- топе се на телесној температур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дросолубилн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е- растварају се у ректалној/вагиналној течност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тале подлог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26DC-D16B-421D-B787-5398EBE692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094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ЦИ ЗА РЕКТАЛНУ АПЛИКАЦ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177300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препарати су намењени за ректалну апликацију са циљем да се постигне системско или локално деловање, или у дијагностичке сврх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нални 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 за ректалну примену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суспензије за ректалну примену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таблете из којих се израђују раствори и суспензије за ректалну примену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(масти, гелови)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е пене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тампони</a:t>
            </a:r>
            <a:r>
              <a:rPr b="1" lang="sl-SI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6564240" y="6975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4E7C-BB7A-4C39-B286-97C31EC19C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СОЛУБИЛНЕ ПОДЛО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ao oleum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IV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solidus 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.Jug.V)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и недостаци какаовог уља с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орфиза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и у изради излива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ма течне компонен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 контракција волумена у току очвршћавања. Због малог волумена контракције током очвршћавања може се десити да се супозиторије лепе за калуп, па је неопходн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мазати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уп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н између тачке топљења и тачке очвршћавања је велики - око 12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што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еповољно</a:t>
            </a: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46"/>
          <p:cNvSpPr/>
          <p:nvPr/>
        </p:nvSpPr>
        <p:spPr>
          <a:xfrm>
            <a:off x="7956720" y="64087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93D0-DEA3-4B12-BC15-E3D5969F30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solidus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 м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1483920"/>
            <a:ext cx="4427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solidus, </a:t>
            </a:r>
            <a:r>
              <a:rPr b="1" lang="sr-Latn-C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fats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емисинтетски глицериди,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ps neutralis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а маст се састоји од смеше триглицерида, диглицерида и моноглицерида, који могу бити добијени естерификацијом масних киселина природног порекла глицеролом или трансестерификацијом природне масноћ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тип чврсте масти је окарактерисан температуром топљења, хидроксилним бројем и сапонификационим бројем. Не садржи адитив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0" y="17002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  C –  R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  C – R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  C – R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формула чврстих масти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deps solid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је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R1/2/3 -  OH 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или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 - C - ( CH2 )n - CH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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 8-16 (1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кали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1,  R2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 не могу бити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6"/>
          <p:cNvSpPr/>
          <p:nvPr/>
        </p:nvSpPr>
        <p:spPr>
          <a:xfrm>
            <a:off x="7226280" y="6400800"/>
            <a:ext cx="1917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20D3-D388-4685-BDF2-728926B6F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epsol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логе</a:t>
            </a:r>
            <a:br>
              <a:rPr sz="2200"/>
            </a:br>
            <a:br>
              <a:rPr sz="22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 ових подлога је извршена према њиховим хемијским и физичким особинама.</a:t>
            </a:r>
            <a:br>
              <a:rPr sz="2000"/>
            </a:br>
            <a:br>
              <a:rPr sz="1800"/>
            </a:b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четири серије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epsol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, W, S, i E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484360" y="3213000"/>
            <a:ext cx="5616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а </a:t>
            </a:r>
            <a:r>
              <a:rPr b="1" lang="sr-Latn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 – hard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врд, чвр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ак садржај моно и диглицери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очвршћавања кратк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а </a:t>
            </a:r>
            <a:r>
              <a:rPr b="1" lang="sr-Latn-C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– weich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 садржај моно и диглицери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е време очвршћавањ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а С – специјалне врс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П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е за израду вагитор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а Е – екст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ка топљења изнад телесне температу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упстанце које снижавају тачку топљењ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46"/>
          <p:cNvSpPr/>
          <p:nvPr/>
        </p:nvSpPr>
        <p:spPr>
          <a:xfrm>
            <a:off x="6635880" y="63784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73AB-D73C-4F90-9D8E-192F799C3E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187280" y="1052640"/>
          <a:ext cx="6840720" cy="6321240"/>
        </p:xfrm>
        <a:graphic>
          <a:graphicData uri="http://schemas.openxmlformats.org/drawingml/2006/table">
            <a:tbl>
              <a:tblPr/>
              <a:tblGrid>
                <a:gridCol w="966960"/>
                <a:gridCol w="2214720"/>
                <a:gridCol w="1949400"/>
                <a:gridCol w="1709640"/>
              </a:tblGrid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EPS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 ТОПЉЕ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МЕРАТУРА ОЧВРШЋАВА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ДРОКСИЛНА ВРЕДНОС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2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-3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5-3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-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0-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-4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0-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5-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5-3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-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-3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-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-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-3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-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-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-35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-3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0-3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-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0-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-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0-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-4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28E5-7EC6-474F-A217-9903965E5B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олубилне подло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ју се на месту прим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 је мала количина телесних течности за растварање (могућ лаксативни ефека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с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е полиетиленглик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латинска подл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 желатинска подлога се не користи за супозитор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адрже воду подложне су развоју микроорганиз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F4BF-5BDE-47A0-9CC9-D752C50186F8}" type="slidenum">
              <a:rPr b="0" lang="en-US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КРОГОЛИ</a:t>
            </a:r>
            <a:br>
              <a:rPr sz="2200"/>
            </a:b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ИЛЕНГЛИКОЛНЕ ПОДЛОГЕ 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PEG )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CH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H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CH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n CH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de-DE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24000" y="3284640"/>
          <a:ext cx="8496000" cy="1576440"/>
        </p:xfrm>
        <a:graphic>
          <a:graphicData uri="http://schemas.openxmlformats.org/drawingml/2006/table">
            <a:tbl>
              <a:tblPr/>
              <a:tblGrid>
                <a:gridCol w="904680"/>
                <a:gridCol w="584280"/>
                <a:gridCol w="581040"/>
                <a:gridCol w="581040"/>
                <a:gridCol w="581040"/>
                <a:gridCol w="584280"/>
                <a:gridCol w="581040"/>
                <a:gridCol w="580680"/>
                <a:gridCol w="584280"/>
                <a:gridCol w="581040"/>
                <a:gridCol w="581040"/>
                <a:gridCol w="581040"/>
                <a:gridCol w="584280"/>
                <a:gridCol w="60624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-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-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-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-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-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-6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-1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-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-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-2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-3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-4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0-6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-9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-2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Rectangle 218"/>
          <p:cNvSpPr/>
          <p:nvPr/>
        </p:nvSpPr>
        <p:spPr>
          <a:xfrm>
            <a:off x="6564240" y="632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AD7D-7DA9-441C-8349-CCBB06203D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23648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 полимери ПЕГ имају различите физичке карактеристик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ПОДЛОГА СА ПОЛИЕТИЛЕНГЛИКОЛИ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5280" y="163944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1000 96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4000 4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1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4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6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15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%   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залне подлог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4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6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0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40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%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Г 1500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wее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    1%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6"/>
          <p:cNvSpPr/>
          <p:nvPr/>
        </p:nvSpPr>
        <p:spPr>
          <a:xfrm>
            <a:off x="2411280" y="5799240"/>
            <a:ext cx="612144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подлоге која садржи површински активну материју. Пожељно је да се користи када се жели брже ослобађање лековите супстанц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чито је погодна када се ради о супозиторијама типа суспензија са тешко растворним лековитим супстанца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2268360" y="2060640"/>
            <a:ext cx="6696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а дезинтеграција супозиторија. Треба водити рачуна да подлога има релативно ниску температуру топљења, па захтева чување на хладном мест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2268360" y="3068640"/>
            <a:ext cx="5616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топљења ове подлоге је нешто већа од претходне, па се користи када се жели спорије отпуштање лековите супстанц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FCEF-D6FD-4185-A3A3-0199D9E6F5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ЕЛАТИНСКА ПОДЛО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599840"/>
            <a:ext cx="4038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израде подлог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ина се прелије са прописаном количином хладне воде и бубри око 15 мину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загревање (на воденом купатилу) врши се растварање и загревање желатин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и се додаје глицерол или глицерол са лековитом супстанцом, темпериран на исту температуру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није додата, лековита супстанца се додаје хомогенизованој мас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ога (препарат) се мери и уколико је потребно дода топле воде до прописане мас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изована маса се излива у претходно подмазане калупе</a:t>
            </a:r>
            <a:r>
              <a:rPr b="0" lang="sl-SI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00720" y="1699920"/>
            <a:ext cx="40384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 неких глицерол-желатинских подлог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2C90-D947-4D49-A2A3-FD82794D6F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910040" y="2708280"/>
          <a:ext cx="3622680" cy="259236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971280"/>
              </a:tblGrid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ИЦЕРОЛ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8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АТ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У ИЗРАДИ СУПОЗИТОРИЈА И ВАГИ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4360" y="2072880"/>
            <a:ext cx="79977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за корекцију тачке (температуре) топљења додају се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е постигле одговарајуће карактеристике топљења готовог производа у случајевима када инкорпориране супстанце повећавају или снижавају температуру топљењ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супозиторије израђују и чувају у топлијим крајевим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риговање карактеристика одабране подло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оводоници (парафин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е киселине и деривати масних киселина (стеаринска киселина, етоксилирани парцијални глицериди масних киселина, глицерол моностеара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вине засићених глицери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и алкохоли (цетил алкохо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кови (пчелињи восак, цетацеум, карнауба восак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2E30-B1F2-4D42-92ED-8D9D8B571C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23640" y="1196640"/>
            <a:ext cx="3887640" cy="56610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за корекцију вискозитет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спорава се седиментација и боља је уједначеност садржаја лековите супстанц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уминијум моно, ди и тристеа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 моностеа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незију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а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аринска кисе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ил алкох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истил алкох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тони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цију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мањење вискозитета користе се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ирано рицинусово уљ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ја лецитин уљ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1640" y="1196640"/>
            <a:ext cx="4321080" cy="56610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које побољшавају пластичност јер ј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омљење супозиторија чест пробл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тил и миристил алкох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ленглик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wе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и 8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аринска кисе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лицериди масних кисел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брикан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за премазивање калупа да би се спречило лепљење супозиторија за зидове калупа, чиме се олакшава ва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е супозитори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е: минерална уљ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а силиконска уља и алкохоли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EE69-1213-4CA0-9729-165F02EB3A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6"/>
          <p:cNvSpPr/>
          <p:nvPr/>
        </p:nvSpPr>
        <p:spPr>
          <a:xfrm>
            <a:off x="6567480" y="6434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3A4B-2204-486C-826B-506793B007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250920" y="692280"/>
            <a:ext cx="871380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едности ректалне апликације лековите супстанце у односу на ор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val 3" descr="Parchment"/>
          <p:cNvPicPr/>
          <p:nvPr/>
        </p:nvPicPr>
        <p:blipFill>
          <a:blip r:embed="rId1"/>
          <a:stretch/>
        </p:blipFill>
        <p:spPr>
          <a:xfrm>
            <a:off x="3029040" y="2687760"/>
            <a:ext cx="3066840" cy="3322440"/>
          </a:xfrm>
          <a:prstGeom prst="rect">
            <a:avLst/>
          </a:prstGeom>
          <a:ln w="0">
            <a:noFill/>
          </a:ln>
        </p:spPr>
      </p:pic>
      <p:sp>
        <p:nvSpPr>
          <p:cNvPr id="139" name="Freeform 4"/>
          <p:cNvSpPr/>
          <p:nvPr/>
        </p:nvSpPr>
        <p:spPr>
          <a:xfrm>
            <a:off x="4280040" y="2705040"/>
            <a:ext cx="420480" cy="33480"/>
          </a:xfrm>
          <a:custGeom>
            <a:avLst/>
            <a:gdLst>
              <a:gd name="textAreaLeft" fmla="*/ 0 w 420480"/>
              <a:gd name="textAreaRight" fmla="*/ 420840 w 4204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87" h="21">
                <a:moveTo>
                  <a:pt x="0" y="20"/>
                </a:moveTo>
                <a:lnTo>
                  <a:pt x="140" y="0"/>
                </a:lnTo>
                <a:lnTo>
                  <a:pt x="286" y="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5"/>
          <p:cNvSpPr/>
          <p:nvPr/>
        </p:nvSpPr>
        <p:spPr>
          <a:xfrm>
            <a:off x="5253120" y="2886120"/>
            <a:ext cx="242640" cy="168120"/>
          </a:xfrm>
          <a:custGeom>
            <a:avLst/>
            <a:gdLst>
              <a:gd name="textAreaLeft" fmla="*/ 0 w 242640"/>
              <a:gd name="textAreaRight" fmla="*/ 243000 w 2426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66" h="106">
                <a:moveTo>
                  <a:pt x="0" y="0"/>
                </a:moveTo>
                <a:lnTo>
                  <a:pt x="86" y="49"/>
                </a:lnTo>
                <a:lnTo>
                  <a:pt x="165" y="10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5853240" y="3476520"/>
            <a:ext cx="106200" cy="228600"/>
          </a:xfrm>
          <a:custGeom>
            <a:avLst/>
            <a:gdLst>
              <a:gd name="textAreaLeft" fmla="*/ 0 w 106200"/>
              <a:gd name="textAreaRight" fmla="*/ 106560 w 106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" h="144">
                <a:moveTo>
                  <a:pt x="0" y="0"/>
                </a:moveTo>
                <a:lnTo>
                  <a:pt x="38" y="73"/>
                </a:lnTo>
                <a:lnTo>
                  <a:pt x="71" y="143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6059520" y="4368960"/>
            <a:ext cx="20520" cy="237960"/>
          </a:xfrm>
          <a:custGeom>
            <a:avLst/>
            <a:gdLst>
              <a:gd name="textAreaLeft" fmla="*/ 0 w 20520"/>
              <a:gd name="textAreaRight" fmla="*/ 20880 w 2052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4" h="150">
                <a:moveTo>
                  <a:pt x="13" y="0"/>
                </a:moveTo>
                <a:lnTo>
                  <a:pt x="13" y="45"/>
                </a:lnTo>
                <a:lnTo>
                  <a:pt x="0" y="14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>
            <a:off x="5769000" y="5184720"/>
            <a:ext cx="103320" cy="174600"/>
          </a:xfrm>
          <a:custGeom>
            <a:avLst/>
            <a:gdLst>
              <a:gd name="textAreaLeft" fmla="*/ 0 w 103320"/>
              <a:gd name="textAreaRight" fmla="*/ 103680 w 1033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70" y="0"/>
                </a:moveTo>
                <a:lnTo>
                  <a:pt x="58" y="19"/>
                </a:lnTo>
                <a:lnTo>
                  <a:pt x="0" y="10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>
            <a:off x="5099040" y="5754600"/>
            <a:ext cx="268200" cy="144720"/>
          </a:xfrm>
          <a:custGeom>
            <a:avLst/>
            <a:gdLst>
              <a:gd name="textAreaLeft" fmla="*/ 0 w 268200"/>
              <a:gd name="textAreaRight" fmla="*/ 268200 w 2682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83" h="91">
                <a:moveTo>
                  <a:pt x="182" y="0"/>
                </a:moveTo>
                <a:lnTo>
                  <a:pt x="100" y="45"/>
                </a:lnTo>
                <a:lnTo>
                  <a:pt x="0" y="9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"/>
          <p:cNvSpPr/>
          <p:nvPr/>
        </p:nvSpPr>
        <p:spPr>
          <a:xfrm>
            <a:off x="4124160" y="5925960"/>
            <a:ext cx="285840" cy="61920"/>
          </a:xfrm>
          <a:custGeom>
            <a:avLst/>
            <a:gdLst>
              <a:gd name="textAreaLeft" fmla="*/ 0 w 285840"/>
              <a:gd name="textAreaRight" fmla="*/ 286200 w 285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95" h="39">
                <a:moveTo>
                  <a:pt x="194" y="38"/>
                </a:moveTo>
                <a:lnTo>
                  <a:pt x="109" y="26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3360600" y="5359320"/>
            <a:ext cx="219240" cy="246240"/>
          </a:xfrm>
          <a:custGeom>
            <a:avLst/>
            <a:gdLst>
              <a:gd name="textAreaLeft" fmla="*/ 0 w 219240"/>
              <a:gd name="textAreaRight" fmla="*/ 219600 w 219240"/>
              <a:gd name="textAreaTop" fmla="*/ 0 h 246240"/>
              <a:gd name="textAreaBottom" fmla="*/ 246240 h 246240"/>
            </a:gdLst>
            <a:ahLst/>
            <a:rect l="textAreaLeft" t="textAreaTop" r="textAreaRight" b="textAreaBottom"/>
            <a:pathLst>
              <a:path w="149" h="155">
                <a:moveTo>
                  <a:pt x="148" y="154"/>
                </a:moveTo>
                <a:lnTo>
                  <a:pt x="73" y="83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2"/>
          <p:cNvSpPr/>
          <p:nvPr/>
        </p:nvSpPr>
        <p:spPr>
          <a:xfrm>
            <a:off x="3062160" y="4541760"/>
            <a:ext cx="55800" cy="290520"/>
          </a:xfrm>
          <a:custGeom>
            <a:avLst/>
            <a:gdLst>
              <a:gd name="textAreaLeft" fmla="*/ 0 w 55800"/>
              <a:gd name="textAreaRight" fmla="*/ 56160 w 55800"/>
              <a:gd name="textAreaTop" fmla="*/ 0 h 290520"/>
              <a:gd name="textAreaBottom" fmla="*/ 290520 h 290520"/>
            </a:gdLst>
            <a:ahLst/>
            <a:rect l="textAreaLeft" t="textAreaTop" r="textAreaRight" b="textAreaBottom"/>
            <a:pathLst>
              <a:path w="38" h="183">
                <a:moveTo>
                  <a:pt x="37" y="182"/>
                </a:moveTo>
                <a:lnTo>
                  <a:pt x="19" y="108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3"/>
          <p:cNvSpPr/>
          <p:nvPr/>
        </p:nvSpPr>
        <p:spPr>
          <a:xfrm>
            <a:off x="3594240" y="2938320"/>
            <a:ext cx="198360" cy="155880"/>
          </a:xfrm>
          <a:custGeom>
            <a:avLst/>
            <a:gdLst>
              <a:gd name="textAreaLeft" fmla="*/ 0 w 198360"/>
              <a:gd name="textAreaRight" fmla="*/ 198720 w 19836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135" h="98">
                <a:moveTo>
                  <a:pt x="0" y="97"/>
                </a:moveTo>
                <a:lnTo>
                  <a:pt x="57" y="51"/>
                </a:lnTo>
                <a:lnTo>
                  <a:pt x="134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4"/>
          <p:cNvSpPr/>
          <p:nvPr/>
        </p:nvSpPr>
        <p:spPr>
          <a:xfrm>
            <a:off x="3110040" y="3618000"/>
            <a:ext cx="96840" cy="258840"/>
          </a:xfrm>
          <a:custGeom>
            <a:avLst/>
            <a:gdLst>
              <a:gd name="textAreaLeft" fmla="*/ 0 w 96840"/>
              <a:gd name="textAreaRight" fmla="*/ 97200 w 96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6" h="163">
                <a:moveTo>
                  <a:pt x="0" y="162"/>
                </a:moveTo>
                <a:lnTo>
                  <a:pt x="30" y="83"/>
                </a:lnTo>
                <a:lnTo>
                  <a:pt x="65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1536840" y="2646360"/>
            <a:ext cx="41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5340240" y="1989000"/>
            <a:ext cx="35528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постоперативних ст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250920" y="1781280"/>
            <a:ext cx="35431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не постоји могућност узимања лека оралним путем (гастроинтестинални поремећаји, мучнина, немогућност гутањ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6084720" y="2565360"/>
            <a:ext cx="28576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пацијент без свести,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лек није могуће дати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 flipV="1">
            <a:off x="482760" y="2814480"/>
            <a:ext cx="24364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6417720" y="3711600"/>
            <a:ext cx="16552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дијатр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324000" y="2997360"/>
            <a:ext cx="2700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жели локално дејство  на слузокожу рект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2"/>
          <p:cNvSpPr/>
          <p:nvPr/>
        </p:nvSpPr>
        <p:spPr>
          <a:xfrm>
            <a:off x="6502320" y="4272120"/>
            <a:ext cx="24336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велике физичке исцрпље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214200" y="4140360"/>
            <a:ext cx="20383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жели избећи портални крв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4"/>
          <p:cNvSpPr/>
          <p:nvPr/>
        </p:nvSpPr>
        <p:spPr>
          <a:xfrm flipH="1">
            <a:off x="8547120" y="4843440"/>
            <a:ext cx="14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339840" y="5194440"/>
            <a:ext cx="2590560" cy="13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лековита супстан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а (могућност деград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исуству дигестивних соков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7"/>
          <p:cNvSpPr/>
          <p:nvPr/>
        </p:nvSpPr>
        <p:spPr>
          <a:xfrm>
            <a:off x="6170760" y="5419800"/>
            <a:ext cx="24145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лековита супстанца иритира слузокожу желу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3811680" y="2459160"/>
            <a:ext cx="306360" cy="27288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 flipV="1">
            <a:off x="5078520" y="2446200"/>
            <a:ext cx="269640" cy="32256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1"/>
          <p:cNvSpPr/>
          <p:nvPr/>
        </p:nvSpPr>
        <p:spPr>
          <a:xfrm flipV="1">
            <a:off x="5721480" y="3041280"/>
            <a:ext cx="336600" cy="16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2"/>
          <p:cNvSpPr/>
          <p:nvPr/>
        </p:nvSpPr>
        <p:spPr>
          <a:xfrm flipV="1">
            <a:off x="6111720" y="3865680"/>
            <a:ext cx="254160" cy="10296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3"/>
          <p:cNvSpPr/>
          <p:nvPr/>
        </p:nvSpPr>
        <p:spPr>
          <a:xfrm flipH="1" flipV="1">
            <a:off x="2065320" y="3841560"/>
            <a:ext cx="985680" cy="29844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4"/>
          <p:cNvSpPr/>
          <p:nvPr/>
        </p:nvSpPr>
        <p:spPr>
          <a:xfrm flipH="1">
            <a:off x="2447640" y="5124600"/>
            <a:ext cx="739800" cy="33804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35"/>
          <p:cNvSpPr/>
          <p:nvPr/>
        </p:nvSpPr>
        <p:spPr>
          <a:xfrm flipV="1">
            <a:off x="6045120" y="4814640"/>
            <a:ext cx="476280" cy="11412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6"/>
          <p:cNvSpPr/>
          <p:nvPr/>
        </p:nvSpPr>
        <p:spPr>
          <a:xfrm rot="769800">
            <a:off x="2263320" y="4408200"/>
            <a:ext cx="741600" cy="368280"/>
          </a:xfrm>
          <a:custGeom>
            <a:avLst/>
            <a:gdLst>
              <a:gd name="textAreaLeft" fmla="*/ 0 w 741600"/>
              <a:gd name="textAreaRight" fmla="*/ 741960 w 74160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34" h="232">
                <a:moveTo>
                  <a:pt x="0" y="231"/>
                </a:moveTo>
                <a:lnTo>
                  <a:pt x="402" y="202"/>
                </a:lnTo>
                <a:lnTo>
                  <a:pt x="633" y="0"/>
                </a:lnTo>
              </a:path>
            </a:pathLst>
          </a:custGeom>
          <a:noFill/>
          <a:ln cap="rnd"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8"/>
          <p:cNvSpPr/>
          <p:nvPr/>
        </p:nvSpPr>
        <p:spPr>
          <a:xfrm rot="603600">
            <a:off x="4844520" y="5975280"/>
            <a:ext cx="1238400" cy="25092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845" h="158">
                <a:moveTo>
                  <a:pt x="0" y="79"/>
                </a:moveTo>
                <a:lnTo>
                  <a:pt x="528" y="157"/>
                </a:lnTo>
                <a:lnTo>
                  <a:pt x="844" y="0"/>
                </a:lnTo>
              </a:path>
            </a:pathLst>
          </a:custGeom>
          <a:noFill/>
          <a:ln cap="rnd"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9"/>
          <p:cNvSpPr/>
          <p:nvPr/>
        </p:nvSpPr>
        <p:spPr>
          <a:xfrm rot="20484600">
            <a:off x="2957040" y="5862600"/>
            <a:ext cx="838440" cy="217440"/>
          </a:xfrm>
          <a:custGeom>
            <a:avLst/>
            <a:gdLst>
              <a:gd name="textAreaLeft" fmla="*/ 0 w 838440"/>
              <a:gd name="textAreaRight" fmla="*/ 838800 w 838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572" h="137">
                <a:moveTo>
                  <a:pt x="571" y="0"/>
                </a:moveTo>
                <a:lnTo>
                  <a:pt x="274" y="136"/>
                </a:lnTo>
                <a:lnTo>
                  <a:pt x="0" y="100"/>
                </a:lnTo>
              </a:path>
            </a:pathLst>
          </a:custGeom>
          <a:noFill/>
          <a:ln cap="rnd"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68360" y="1284120"/>
            <a:ext cx="3959280" cy="53848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које се користе за стабилизацију супози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зерванси и антиоксидан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 конзерванса може бити неопходан због постизања одговарајућег микробиолошког квалитета и због тога што састојци препарата могу условити раст микроорганиза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је могућа оксидација подлоге или неке од супстанци, понекад је потребно додати и антиоксидан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716000" y="1268280"/>
            <a:ext cx="4103640" cy="54007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 активне материје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се из више разлог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могуће боље квашење диспергованих чест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могуће емулговање течних компоне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бољшају процес ослоб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ња (боље квашење и растварање у ректалној течнос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повећа капацитет распростирања по апликац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је број површин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х материја које се мог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ти, али се препоручу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онск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ба увек проверити да ли подлога већ садржи површински активну материју</a:t>
            </a:r>
            <a:r>
              <a:rPr b="0" lang="sl-SI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BF51-1038-43D6-93A2-10379AC9F9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5640" y="1196640"/>
            <a:ext cx="70102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ЈА ИЗРАДЕ СУПОЗИТОРИЈ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АГИТОРИЈ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53964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ода израде без загревањ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ладно компримовање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на из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Израда истискивањем из калу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) Поступак компримо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изливања у калу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оступак ручног изл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луаутоматска из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) Аутоматска из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AF69-387D-4541-8DFF-2083099FD8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1379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ИЗЛИВАЊА У КАЛУ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95280" y="191592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шире коришћ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се може извести коректно и без већих тешкоћа и у апотеци и у индустријским постројењ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вом поступку основна маса за израду супозиторија се топи и по додатку лековите супстанце и помоћних материја излива у одговарајуће калуп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 може бити растворена, суспендована или емулгована у подлоз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вом поступку могући су губици масе па се на рачун растура узима 10-20% више свих компоненти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18"/>
          <p:cNvSpPr/>
          <p:nvPr/>
        </p:nvSpPr>
        <p:spPr>
          <a:xfrm>
            <a:off x="6491160" y="7107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4A47-4985-4E30-BD26-72D0A79007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6527880" y="6840360"/>
            <a:ext cx="2133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56D4-3E82-4D34-9D67-CC23568F86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icture 2"/>
          <p:cNvSpPr/>
          <p:nvPr/>
        </p:nvSpPr>
        <p:spPr>
          <a:xfrm>
            <a:off x="1403280" y="3141720"/>
            <a:ext cx="597060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819000" y="2362320"/>
            <a:ext cx="2068560" cy="66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е из ка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4005360"/>
            <a:ext cx="2320920" cy="66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ањање виш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вене ма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1422360" y="6019920"/>
            <a:ext cx="2068560" cy="66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ђењ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6205680" y="2362320"/>
            <a:ext cx="2068200" cy="666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подл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697800" y="4003560"/>
            <a:ext cx="2068200" cy="666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 леков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и подл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5883120" y="6095880"/>
            <a:ext cx="2068560" cy="666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322800" y="3840120"/>
            <a:ext cx="2462040" cy="1266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А СУПСТАН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0"/>
          <p:cNvSpPr/>
          <p:nvPr/>
        </p:nvSpPr>
        <p:spPr>
          <a:xfrm>
            <a:off x="2084400" y="3144960"/>
            <a:ext cx="1758960" cy="56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1"/>
          <p:cNvSpPr/>
          <p:nvPr/>
        </p:nvSpPr>
        <p:spPr>
          <a:xfrm>
            <a:off x="2484360" y="4365720"/>
            <a:ext cx="70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2"/>
          <p:cNvSpPr/>
          <p:nvPr/>
        </p:nvSpPr>
        <p:spPr>
          <a:xfrm flipH="1">
            <a:off x="2647440" y="5087880"/>
            <a:ext cx="1195560" cy="760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3"/>
          <p:cNvSpPr/>
          <p:nvPr/>
        </p:nvSpPr>
        <p:spPr>
          <a:xfrm flipH="1">
            <a:off x="5508720" y="3213000"/>
            <a:ext cx="1758960" cy="696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4"/>
          <p:cNvSpPr/>
          <p:nvPr/>
        </p:nvSpPr>
        <p:spPr>
          <a:xfrm>
            <a:off x="5813280" y="4324320"/>
            <a:ext cx="843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5460840" y="5038560"/>
            <a:ext cx="1336680" cy="88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1042920" y="1027080"/>
            <a:ext cx="741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о-технолошки аспекти израде супозито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9"/>
          <p:cNvSpPr/>
          <p:nvPr/>
        </p:nvSpPr>
        <p:spPr>
          <a:xfrm flipV="1">
            <a:off x="3455640" y="2362680"/>
            <a:ext cx="310320" cy="24480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851280" y="1844640"/>
            <a:ext cx="2068560" cy="666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c0504d"/>
            </a:solidFill>
            <a:miter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ИЗЛИВАЊА У КАЛУ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79520" y="1569960"/>
            <a:ext cx="82692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ивањ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љена маса се сипа у такозвану хранилицу где се континуирано меша и држи на константној температури. Калупи су постављени радијално на расхладном окретном столу. Сваки калуп се пуни мало више него што је потребно, због контракције волумена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ђењ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ђење се подешава зависно од масе за супозиторије, подешавањем брзине ротирања расхладног стола. Очврсле супозиторије се преносе до делова уређаја који врши даљу обраду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гање вишка очврсле ма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једном делу се налази нож који скида вишак масе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6"/>
          <p:cNvSpPr/>
          <p:nvPr/>
        </p:nvSpPr>
        <p:spPr>
          <a:xfrm>
            <a:off x="6564240" y="64119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0C48-DEC3-46F7-8653-489F633E1E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1125000"/>
            <a:ext cx="8075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аковање супози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калупи стигну до дела уређаја за вађење супозиторија, калупи се отварају а супозиторије истискују челичним штапићем. Извађене супозиторије се накнадно морају паковати. До процеса паковања морају се чувати на температури 4-10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о би се олакшао пренос супозиторија на машине за пакова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 добијене на овај начин морају се чувати до паковања у посебним спремиштима како би се садржај заштитио од контаминације и влаге. Због проблема који се могу јавити од момента вађења супозиторија па до нове фазе производње-паковања, погоднија је аутоматска производња, где ове фазе теку континуирано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ање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ање и подмазивање калу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вршеном процесу вађења супозиторија калуп се затвара и преноси на станицу (део машине) за прање. четкање и подмазивање калупа. Ваздушни млаз одувава комадиће отпале са супозиторија и тако се скраћује време потребно за чишће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B80A-E97E-4B28-A4ED-BE6854EB4C0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за пако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920" y="1915920"/>
            <a:ext cx="3440160" cy="45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бар материјал за паковање мора задовољити следеће услов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бити инерт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штитити од утицаја светл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 пропуштати кисеоник, влагу, испарљиве компоненте, микроорганиз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бити постојаног обл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 бити лепог изгл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0" y="1915920"/>
            <a:ext cx="439272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материјали за паковање могу се користити целофан, акрилонитни бутадиен стирен (АБС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пропилен високе густине ( ХДПЕ ), полипропилен ниске густине (ЛДПЕ ), полипропилен (ПП), полистирен (ПС)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винилхлорид (ПВЦ), алуминијум и комбинације ових материјал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се на тржишту могу наћи пластични калупи, такозване “супо-форме”, за магистралну и индустријску производњу, који су изр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и од различитих типова пластик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о се излива маса за супозиторије и потом се могу херметички затворити тако да уједно представљају и амбалаж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491160" y="667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0F5F-D1B0-4272-AD13-5F2292AA30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87440" y="10234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упи за изливање</a:t>
            </a:r>
            <a:br>
              <a:rPr sz="36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23640" y="1988640"/>
            <a:ext cx="489564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агистралну израду употребљавају се калупи од различитих материјала. Метални калупи могу бити од месинга, нерђајућег челика, калаја и др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 калупи се састоје из два или више уздужно израђених делова који су један у односу на други као лик и слика у огледалу. Делови калупа су повезани вијцима или другим подесним механизмом који омогућава затварање и отварање калупа. Шупљине калупа могу бити различитог облик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дустрији и у галенским лабораторијама у већој мери се користе готове фолије (калупи) од различитих материјала (углавном пластични материјали) које након пуњења остају као примарна амбалажа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6583320" y="69897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FBB0-4DD4-4BEF-B086-4F1BBCE63A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Резултат слика за metal suppositorium"/>
          <p:cNvPicPr/>
          <p:nvPr/>
        </p:nvPicPr>
        <p:blipFill>
          <a:blip r:embed="rId1"/>
          <a:stretch/>
        </p:blipFill>
        <p:spPr>
          <a:xfrm>
            <a:off x="5148360" y="3429000"/>
            <a:ext cx="3995640" cy="3995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1" descr="C:\Users\Ana Radovanovic\Downloads\kalup za supp.jpg"/>
          <p:cNvPicPr/>
          <p:nvPr/>
        </p:nvPicPr>
        <p:blipFill>
          <a:blip r:embed="rId2"/>
          <a:stretch/>
        </p:blipFill>
        <p:spPr>
          <a:xfrm>
            <a:off x="5796000" y="2060640"/>
            <a:ext cx="295272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907560"/>
            <a:ext cx="70102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ир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4000" y="177300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гнатури треба да буде наведе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препарата, јачина, начин чувања, рок употребе, серијски број и начин употр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репарат садржи конзерванс, на сигнатури мора бити наведено име и концентраци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захтева посебна припрема пре употребе препарата она мора бити назнач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 паковање мора да има и упутство, које даје детаљније информације о препарату од оних означених на паковању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112680" y="6985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197A-1026-4E68-90AF-D3E911DD19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6208560" y="6988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C25C-9000-4F7D-A4EB-EFE30F3A1C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324000" y="806400"/>
          <a:ext cx="8820000" cy="6051600"/>
        </p:xfrm>
        <a:graphic>
          <a:graphicData uri="http://schemas.openxmlformats.org/drawingml/2006/table">
            <a:tbl>
              <a:tblPr/>
              <a:tblGrid>
                <a:gridCol w="2939760"/>
                <a:gridCol w="2940120"/>
                <a:gridCol w="294012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Р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АЊ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ечишћење у супозиториј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љави калуп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чисте сирови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трирати подл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ати калу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омогена отопљена ма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димент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ара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есити мешање и температур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тнити лековиту супстанц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гушњавање отопљене ма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и проценат чврсте супстанц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ниска температура топљ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говати температуру топљ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стити супстанце без кристалне во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и П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апање вазду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брзо меш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ша меша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ише П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есити брзину меш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енити мешалиц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и формулациј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љење супозиторија за калу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ше хла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одмазан калу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ша подло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тећен калу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говати начин хлађ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азати калу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ити подл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рати калу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варање пукотина и ле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ша подло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исока температура излив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јако хла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ити подл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исати температуру излив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егавати хла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ломљене супозитор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димент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лопљен вазду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ако лепљење за калу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рола мешања и температуре излив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SzPct val="103006"/>
                        <a:buBlip>
                          <a:blip r:embed="rId1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а калу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Rectangle 218"/>
          <p:cNvSpPr/>
          <p:nvPr/>
        </p:nvSpPr>
        <p:spPr>
          <a:xfrm>
            <a:off x="65642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C01F-A6FD-4390-91B6-CADC7D64D9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50920" y="907920"/>
            <a:ext cx="871380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достаци ректалне апликације лековите супстанце у односу на орални начин прим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val 3" descr="Parchment"/>
          <p:cNvPicPr/>
          <p:nvPr/>
        </p:nvPicPr>
        <p:blipFill>
          <a:blip r:embed="rId1"/>
          <a:stretch/>
        </p:blipFill>
        <p:spPr>
          <a:xfrm>
            <a:off x="2998800" y="2852640"/>
            <a:ext cx="3073320" cy="33228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4"/>
          <p:cNvSpPr/>
          <p:nvPr/>
        </p:nvSpPr>
        <p:spPr>
          <a:xfrm>
            <a:off x="4251240" y="2870280"/>
            <a:ext cx="420840" cy="33120"/>
          </a:xfrm>
          <a:custGeom>
            <a:avLst/>
            <a:gdLst>
              <a:gd name="textAreaLeft" fmla="*/ 0 w 420840"/>
              <a:gd name="textAreaRight" fmla="*/ 421200 w 4208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87" h="21">
                <a:moveTo>
                  <a:pt x="0" y="20"/>
                </a:moveTo>
                <a:lnTo>
                  <a:pt x="140" y="0"/>
                </a:lnTo>
                <a:lnTo>
                  <a:pt x="286" y="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5"/>
          <p:cNvSpPr/>
          <p:nvPr/>
        </p:nvSpPr>
        <p:spPr>
          <a:xfrm>
            <a:off x="5224320" y="3051000"/>
            <a:ext cx="243000" cy="168480"/>
          </a:xfrm>
          <a:custGeom>
            <a:avLst/>
            <a:gdLst>
              <a:gd name="textAreaLeft" fmla="*/ 0 w 243000"/>
              <a:gd name="textAreaRight" fmla="*/ 243360 w 2430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66" h="106">
                <a:moveTo>
                  <a:pt x="0" y="0"/>
                </a:moveTo>
                <a:lnTo>
                  <a:pt x="86" y="49"/>
                </a:lnTo>
                <a:lnTo>
                  <a:pt x="165" y="105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"/>
          <p:cNvSpPr/>
          <p:nvPr/>
        </p:nvSpPr>
        <p:spPr>
          <a:xfrm>
            <a:off x="5824440" y="3641760"/>
            <a:ext cx="106560" cy="228600"/>
          </a:xfrm>
          <a:custGeom>
            <a:avLst/>
            <a:gdLst>
              <a:gd name="textAreaLeft" fmla="*/ 0 w 106560"/>
              <a:gd name="textAreaRight" fmla="*/ 106920 w 106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72" h="144">
                <a:moveTo>
                  <a:pt x="0" y="0"/>
                </a:moveTo>
                <a:lnTo>
                  <a:pt x="38" y="73"/>
                </a:lnTo>
                <a:lnTo>
                  <a:pt x="71" y="143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6031080" y="4533840"/>
            <a:ext cx="20520" cy="238320"/>
          </a:xfrm>
          <a:custGeom>
            <a:avLst/>
            <a:gdLst>
              <a:gd name="textAreaLeft" fmla="*/ 0 w 20520"/>
              <a:gd name="textAreaRight" fmla="*/ 20880 w 205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4" h="150">
                <a:moveTo>
                  <a:pt x="13" y="0"/>
                </a:moveTo>
                <a:lnTo>
                  <a:pt x="13" y="45"/>
                </a:lnTo>
                <a:lnTo>
                  <a:pt x="0" y="14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8"/>
          <p:cNvSpPr/>
          <p:nvPr/>
        </p:nvSpPr>
        <p:spPr>
          <a:xfrm>
            <a:off x="5740560" y="5349960"/>
            <a:ext cx="102960" cy="174600"/>
          </a:xfrm>
          <a:custGeom>
            <a:avLst/>
            <a:gdLst>
              <a:gd name="textAreaLeft" fmla="*/ 0 w 102960"/>
              <a:gd name="textAreaRight" fmla="*/ 103320 w 102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71" h="110">
                <a:moveTo>
                  <a:pt x="70" y="0"/>
                </a:moveTo>
                <a:lnTo>
                  <a:pt x="58" y="19"/>
                </a:lnTo>
                <a:lnTo>
                  <a:pt x="0" y="109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9"/>
          <p:cNvSpPr/>
          <p:nvPr/>
        </p:nvSpPr>
        <p:spPr>
          <a:xfrm>
            <a:off x="5070600" y="5919840"/>
            <a:ext cx="268200" cy="144360"/>
          </a:xfrm>
          <a:custGeom>
            <a:avLst/>
            <a:gdLst>
              <a:gd name="textAreaLeft" fmla="*/ 0 w 268200"/>
              <a:gd name="textAreaRight" fmla="*/ 268200 w 26820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83" h="91">
                <a:moveTo>
                  <a:pt x="182" y="0"/>
                </a:moveTo>
                <a:lnTo>
                  <a:pt x="100" y="45"/>
                </a:lnTo>
                <a:lnTo>
                  <a:pt x="0" y="9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"/>
          <p:cNvSpPr/>
          <p:nvPr/>
        </p:nvSpPr>
        <p:spPr>
          <a:xfrm>
            <a:off x="4095720" y="6091200"/>
            <a:ext cx="285840" cy="61920"/>
          </a:xfrm>
          <a:custGeom>
            <a:avLst/>
            <a:gdLst>
              <a:gd name="textAreaLeft" fmla="*/ 0 w 285840"/>
              <a:gd name="textAreaRight" fmla="*/ 286200 w 2858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195" h="39">
                <a:moveTo>
                  <a:pt x="194" y="38"/>
                </a:moveTo>
                <a:lnTo>
                  <a:pt x="109" y="26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1"/>
          <p:cNvSpPr/>
          <p:nvPr/>
        </p:nvSpPr>
        <p:spPr>
          <a:xfrm>
            <a:off x="3332160" y="5524560"/>
            <a:ext cx="219240" cy="245880"/>
          </a:xfrm>
          <a:custGeom>
            <a:avLst/>
            <a:gdLst>
              <a:gd name="textAreaLeft" fmla="*/ 0 w 219240"/>
              <a:gd name="textAreaRight" fmla="*/ 219600 w 2192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49" h="155">
                <a:moveTo>
                  <a:pt x="148" y="154"/>
                </a:moveTo>
                <a:lnTo>
                  <a:pt x="73" y="83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2"/>
          <p:cNvSpPr/>
          <p:nvPr/>
        </p:nvSpPr>
        <p:spPr>
          <a:xfrm>
            <a:off x="3033720" y="4707000"/>
            <a:ext cx="55440" cy="290520"/>
          </a:xfrm>
          <a:custGeom>
            <a:avLst/>
            <a:gdLst/>
            <a:ahLst/>
            <a:rect l="l" t="t" r="r" b="b"/>
            <a:pathLst>
              <a:path w="38" h="183">
                <a:moveTo>
                  <a:pt x="37" y="182"/>
                </a:moveTo>
                <a:lnTo>
                  <a:pt x="19" y="108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3"/>
          <p:cNvSpPr/>
          <p:nvPr/>
        </p:nvSpPr>
        <p:spPr>
          <a:xfrm>
            <a:off x="3565440" y="3103560"/>
            <a:ext cx="198360" cy="155520"/>
          </a:xfrm>
          <a:custGeom>
            <a:avLst/>
            <a:gdLst>
              <a:gd name="textAreaLeft" fmla="*/ 0 w 198360"/>
              <a:gd name="textAreaRight" fmla="*/ 198720 w 1983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5" h="98">
                <a:moveTo>
                  <a:pt x="0" y="97"/>
                </a:moveTo>
                <a:lnTo>
                  <a:pt x="57" y="51"/>
                </a:lnTo>
                <a:lnTo>
                  <a:pt x="134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4"/>
          <p:cNvSpPr/>
          <p:nvPr/>
        </p:nvSpPr>
        <p:spPr>
          <a:xfrm>
            <a:off x="3081240" y="3782880"/>
            <a:ext cx="96840" cy="258840"/>
          </a:xfrm>
          <a:custGeom>
            <a:avLst/>
            <a:gdLst>
              <a:gd name="textAreaLeft" fmla="*/ 0 w 96840"/>
              <a:gd name="textAreaRight" fmla="*/ 97200 w 968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66" h="163">
                <a:moveTo>
                  <a:pt x="0" y="162"/>
                </a:moveTo>
                <a:lnTo>
                  <a:pt x="30" y="83"/>
                </a:lnTo>
                <a:lnTo>
                  <a:pt x="65" y="0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1508040" y="2811600"/>
            <a:ext cx="416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5867280" y="2276640"/>
            <a:ext cx="296244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е варијације у биорасположивости лековите супстаце, а самим тим и слабији ефекти у терап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611280" y="2708280"/>
            <a:ext cx="29671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агодност коју изазива овај начин апли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 flipV="1">
            <a:off x="453960" y="2979720"/>
            <a:ext cx="24368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rot="10800000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1"/>
          <p:cNvSpPr/>
          <p:nvPr/>
        </p:nvSpPr>
        <p:spPr>
          <a:xfrm>
            <a:off x="-14400" y="2992320"/>
            <a:ext cx="2700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4"/>
          <p:cNvSpPr/>
          <p:nvPr/>
        </p:nvSpPr>
        <p:spPr>
          <a:xfrm flipH="1">
            <a:off x="8518680" y="5008680"/>
            <a:ext cx="149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5"/>
          <p:cNvSpPr/>
          <p:nvPr/>
        </p:nvSpPr>
        <p:spPr>
          <a:xfrm>
            <a:off x="179280" y="5229360"/>
            <a:ext cx="2301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изводњи већих количина могу се јавити технолошки пробле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6156360" y="5877000"/>
            <a:ext cx="24145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и услови чу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2916360" y="3357720"/>
            <a:ext cx="306360" cy="27288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5580000" y="2997000"/>
            <a:ext cx="270000" cy="322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2"/>
          <p:cNvSpPr/>
          <p:nvPr/>
        </p:nvSpPr>
        <p:spPr>
          <a:xfrm flipH="1">
            <a:off x="2418840" y="5289480"/>
            <a:ext cx="739800" cy="33804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5"/>
          <p:cNvSpPr/>
          <p:nvPr/>
        </p:nvSpPr>
        <p:spPr>
          <a:xfrm rot="603600">
            <a:off x="4816080" y="6140520"/>
            <a:ext cx="1238400" cy="25092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845" h="158">
                <a:moveTo>
                  <a:pt x="0" y="79"/>
                </a:moveTo>
                <a:lnTo>
                  <a:pt x="528" y="157"/>
                </a:lnTo>
                <a:lnTo>
                  <a:pt x="844" y="0"/>
                </a:lnTo>
              </a:path>
            </a:pathLst>
          </a:custGeom>
          <a:noFill/>
          <a:ln cap="rnd" w="2844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1E1C-35E5-4504-BFAE-AED557E938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ТАЧНОСТ ДОЗИРАЊА ЛЕКОВИТИХ СУПСТАНЦА У СУПОЗИТОР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8360" y="23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БАЖДАРНЕ ВРЕДНОСТИ (запремине) КАЛУ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СЕДИМЕНТАЦИЈЕ НА ТАЧНОСТ ДОЗИР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6247-7BB3-4433-9B9D-C1F383C8CA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БАЖДАРНЕ ВРЕДНОСТИ КАЛУПА НА ТАЧНОСТ ДОЗИРАЊА СУПОЗИТ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5280" y="1988640"/>
            <a:ext cx="8748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дарна вредност калупа треба да се одре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формулације супозитор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ређену врсту кал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мења врста кал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аку врсту подлог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дређен број супозиторија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-20) - измери се маса укупног броја супозиторија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израчуна баждарна вредност калупа 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= m/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аждарна вредност калу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са укупног броја супозиторија од чисте подло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рој израђених супозитор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8435-2797-43F8-B963-E2AB3C1180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Oval 5"/>
          <p:cNvSpPr/>
          <p:nvPr/>
        </p:nvSpPr>
        <p:spPr>
          <a:xfrm>
            <a:off x="2771640" y="4365720"/>
            <a:ext cx="1584360" cy="503280"/>
          </a:xfrm>
          <a:prstGeom prst="ellipse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31640" y="907920"/>
            <a:ext cx="701028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СТИСКИВ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23640" y="184464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стискивања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оже се дефинисати на два начина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рама подлоге коју истисне један грам лековите супстан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рама лековите супстанце који замењује један грам подлоге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њиховој дефиницији јасно је да се може израчунати један из другог, односно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p  =  1/f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се бројчане вредности фактора истискивања могу наћи као литературни подаци, значајно је установити на коју дефиницију (односно фактор истискивања) се односе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184320" y="6840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59C5-7B0C-46DD-BC49-633F84D1EA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6280200" y="6843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734C-0CA6-444F-AA28-DDAF5B973D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од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у фактора истискивања могу се јавити пробле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2088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евима када се лековита супстанца раствара у подлоз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2088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у току израде дође до промене кристалног облика или величине честиц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2088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у току израде дође до делимичног растварања лековите супстанце (због повишене температуре) и поновног кристалисања у току хлађењ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није познат фактор истискивања, често се у пракси користе приближне вредности. Тако се за већину органских супстанца узима да је фактор истискивања приближно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7- fp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 - 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фактор истискивања обавезно узима у обзир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израђуј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супозитор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количина ЛС (прашкасте)  ≥ 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9CDF-6E54-4A88-A490-8916181CA08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УПОЗИТОРУЈА И ВАГИТОРИЈА</a:t>
            </a:r>
            <a:br>
              <a:rPr sz="2200"/>
            </a:br>
            <a:br>
              <a:rPr sz="1300"/>
            </a:br>
            <a:r>
              <a:rPr b="1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Методе испитивања подлога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Методе испитивања готових производа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2276640"/>
            <a:ext cx="799128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подлоге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чистоћ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хемијског саст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карактеристичних параметара (нпр. хидроксилни број, сапонификациони број ит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топље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очвршћава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гус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тракција волум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бро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гелирања (за желатину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46"/>
          <p:cNvSpPr/>
          <p:nvPr/>
        </p:nvSpPr>
        <p:spPr>
          <a:xfrm>
            <a:off x="6564240" y="64501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6F9E-BF03-4A71-8E49-51A8595073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684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супозиторија и вагиторија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а испитив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 ма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љив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тврдоћ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ацитет распростир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ње ослобађања лековите супстан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и за испитивање стабилнос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F5B2-BAA4-4A39-B613-E2F077C18F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СУПОЗИТОРИЈА И ВАГИТО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77360" y="1395360"/>
            <a:ext cx="83012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табилности супозиторија и вагиторија врши се у одређеним интервалима и обухвата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лептичка испитивањ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ате се промене у спољашњем изгледу готовог препара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 физичке стабилност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ате се механичке карактеристике (распадљивост, чврстина) и брзина ослобађања лековите супстанце како би се установило да ли у току времена долази до пром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хемијске стабилности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ати се садржај лековите супстанце, могућа појава деградационих производа како лековите супстанце тако и неке од помоћних материја, укључујући и подлог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а контаминациј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 одређеним временским интервалима прати се ниво микробиолошке контаминације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6491160" y="66578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FD24-82AE-4DF6-8C74-5122E0D099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youtube.com/watch?v=2B-quas60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085A-3BD4-4349-8ACD-9B459CFB816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0A58-5417-491E-922B-EF08333DF4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ија и физиологија ректу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95280" y="24998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нормалним околностима, ректум је празан и његово пуњење представља надражај за рефлекс дефекације, што је вољно контролиса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ум садржи око 2 - 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укозног садржаја, који им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 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и мали пуферски капаците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E88B-A4A1-428A-9BBB-BCAECAFE05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348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ија и физиологија ректу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773360"/>
            <a:ext cx="84358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ектума крв одводе 3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е ил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роидалне вене: горња у хепатичну вена, а средња и доња директно у системски крво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се апсорбују у нижим партијама ректума, испоручују се директно у системску циркулацију, избегавајући метаболизам првог пролас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ак, доказано је да се супозиторије могу пласирати довољно високо у ректуму, што омогућава да један део лека ипак дође до порталног крвотока, п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ује одржавање лека у нижим деловима ректу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46"/>
          <p:cNvSpPr/>
          <p:nvPr/>
        </p:nvSpPr>
        <p:spPr>
          <a:xfrm>
            <a:off x="6559560" y="6381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9604-EB76-4CBC-A32E-4146C9AB56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ија и физиологија ректу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76720" y="1971360"/>
            <a:ext cx="55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У зависности од особина подлоге, супозиторије се ил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растварај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у ректалној течности или с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топ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у мукозном слој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Независно од типа подлоге, растворена лековита супстанца у супозиторији, дифундоваће према ректалној мембра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Процес апсорпције ј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пасивна дифузиј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псорпција лека је олакшана услед добре прокрвљености ректума, али је површина апсорпције мала тако да се апсорпција одвија спо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ектална апсорпција је често некомпле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Л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ечење улцерозног колитиса, диазепам код деце 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status epileptic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46"/>
          <p:cNvSpPr/>
          <p:nvPr/>
        </p:nvSpPr>
        <p:spPr>
          <a:xfrm>
            <a:off x="6553080" y="65721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21E1-7992-409F-92F5-48F323D8D2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2" descr="Резултат слика за anatomija rektuma"/>
          <p:cNvPicPr/>
          <p:nvPr/>
        </p:nvPicPr>
        <p:blipFill>
          <a:blip r:embed="rId1"/>
          <a:stretch/>
        </p:blipFill>
        <p:spPr>
          <a:xfrm>
            <a:off x="468360" y="2133720"/>
            <a:ext cx="25477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апсорпцију лека из супозитор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9280" y="2420640"/>
            <a:ext cx="3889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 фак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дебелог цре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сре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"/>
          <p:cNvSpPr/>
          <p:nvPr/>
        </p:nvSpPr>
        <p:spPr>
          <a:xfrm>
            <a:off x="4284720" y="2421000"/>
            <a:ext cx="4680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-хемијски 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циони коефицијент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под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888F-1906-449A-8A35-A981D53FCD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2-12T11:00:52Z</dcterms:modified>
  <cp:revision>233</cp:revision>
  <dc:subject/>
  <dc:title>Slide 1</dc:title>
</cp:coreProperties>
</file>